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EB3C-94C1-49EE-AD49-BA73FCC6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B71A-19AD-4652-9C4C-DB9F0454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8AE9-1CCC-4596-8E8C-1F553F09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6886-3829-46ED-AF5B-477B0084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E2EC-B4DF-4ACC-947A-6BCD0A0C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AAD-EB80-4DF1-8E1E-B6BCC6E0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BFA1-82BA-4D74-A0A2-E5B5788F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CC1A-A58C-496E-870C-14F7AF7B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D827-14C6-4108-BB83-AA7EDA9C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214F-F6E5-44F9-8B73-19B513CA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103A-C57E-4D5E-B774-AD6B104A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CC61-FEA5-4F35-A3B6-14765296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56B2-AE4E-4238-A7A7-1151DE5D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33B9-A8EC-4DB1-AE56-8A822BF3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D563-124B-4E38-8DD5-45384DB7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11B9-315A-459D-BB47-EA8069DF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EF1C-7608-476A-9131-02EADE3D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72A0-ABD3-4383-96F1-2A4AE9DA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ECCC-FE46-4D05-B733-86743FA8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047F-77F0-497D-A6DB-0852234E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021F-AF0A-49ED-BAA0-04972DC4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4A0A-8FF7-4C9E-AF3F-A6FE283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5E9B-291C-4CB8-8F9E-5789EA4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67A0-1267-47AF-B22C-FBB3C8F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90A0-A21F-49A8-AC13-DB4D39F8F70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396-EFAB-4F8D-9B51-835E17FAFD4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7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87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Малки вий деца, ела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ушайте Христовий глас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за вас кръвта Си дад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да е Спасител ваш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лко трябва да Му служ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най-малките дец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лко трябва да Го люб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же малките сър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Нек' доброто все да върш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радост малките ръц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пътя Божи нека тич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етинските ноз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четат Светата кни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гат малките оч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Исуса вест дости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о малките уш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ека малките езиц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еят песни на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амове на Духа Све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са малките тел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небето има слав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латни, хубави венц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ли дрехи, чудни арф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децата верни вси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10T06:29:12Z</dcterms:modified>
  <cp:revision>209</cp:revision>
  <dc:subject/>
  <dc:title>Slide 1</dc:title>
</cp:coreProperties>
</file>